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C29-706F-480C-A2F2-75A7C19B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C12-DA17-4C2A-B68A-D9A85BA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01495-26E7-4867-A555-BC0E29AC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EA5D3-FC7F-4698-98E8-F84D014D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30B61-94FA-476A-8BCF-F8CF73F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29D06-31F7-4D9B-85BC-9C1F0DB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8D242-D77D-40D2-8F33-F1AAE1DA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B3D13-0DDD-42DE-A00A-3B4094A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54B1-08DB-4DD9-9F0E-D31E086C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0DCC2-79B3-4D44-B720-0B70F59A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FB9E5-6E33-4E81-8761-19F57D53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2151E-94B5-4840-B384-88F45A70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221-7777-45E6-B961-0B47FB55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F517-E30F-4651-AB08-0935175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2F51-C4F6-4C4C-A157-3F28B171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40F83-F6D8-420E-AAA6-D96A9A3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CA6A5-2B5E-453D-A2D3-687A7DD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42184-7480-481D-99B9-BB4BD54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8710C-963B-43BE-A9B0-8C5901D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375E2-F5F4-415B-8DFE-F56FA3E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7AB15-FCB0-4755-9D76-088D0FE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FBAE3-9AB4-456E-A15B-EF2E04C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E481B-EF34-48DA-87C8-6132043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560-E137-4C93-86D2-6EB4F047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1608A-BBC8-49FB-BD3D-858B40AA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F9709-15B5-47D5-BAC4-2B3F56A1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3C109-BAEF-42D2-860F-B79DF912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2221-DB1B-4954-9DE4-31781972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15862-8826-4232-A22F-BEDD125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813B8-80C7-4383-B1AF-1C067C0F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0BCBF-8D18-4759-8AB1-8926B9B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93D05-18E9-4582-A816-2F5944A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1946-9370-4F9A-9342-AEB45FD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12103-80DF-485B-BD75-FBFAEE1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A8B-FF45-4640-BFC6-BD80FB3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D3DD-2315-4617-8200-89ED3CE0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CD313-8CD0-42AD-AB2F-DE4F280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9FCA-0789-46B2-B131-6D0BC1A4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FF0A1-ADFF-4C2C-AD51-C76FEBFB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46B10-3BAA-4398-A648-0E9796F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3F70-48C6-4528-865C-C54C7B8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C021B-D50B-4E2E-9060-8C4B8FC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FCDF5-AAC5-4D87-8C23-7676B4C0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848F6-DECB-4599-A061-AF58E6F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2CA9-B1B8-4432-8E6E-DE4F15C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E2D3-E6B3-43EF-8A9C-0065129F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219B9-DFFA-4D38-81DC-C3369BA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E9D0B-E301-47B7-A0AD-F927824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BB3BD-8090-49F5-B778-4B6BFCA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DFA60-E975-48D4-8B16-8E540C14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CF612-C379-4DAB-8D2F-2E8CE8E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8C1CA-E990-4776-AD63-294E5B00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6C43E-E6F9-4094-9725-06E1D084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ED19C-A83C-4BB5-A8A9-EB2165F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A977C-E9E3-4C05-8AAD-BBECB9D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7363D-05C3-48C5-BA01-5FC7338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8C4-0882-4322-B8CF-DEC65841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475C9-3CC8-4F4C-AEE5-8825B4C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BF3AB-87E8-41F3-A326-42ECBBB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D5839-218D-45C2-80DD-65023D3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5A8C3-A0B2-4863-B8F5-C81A0D6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DF492-02F3-4E26-ABF0-F27689CD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49E5D-B5A9-457F-9407-04393561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B5781-4BCE-41C6-AD8C-CE636152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D2002-B0A7-40F6-804D-52A19D33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C04C6-B9E2-4B6C-A02D-7AB7663F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C7A17-3CED-4650-96CD-8CE899BB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19F-1D3D-4DCC-89D0-3C0A1640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EEA3D-51E0-4D82-82A5-7E550DB1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3E0D0-A319-4437-B8C0-E82F5D2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E0CCD-3C41-4C6E-8849-2E8F8F9E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05124-74D6-415F-877D-4179326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D3B98-9AE6-4BD1-B16F-CF92544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E7C9A-2790-4248-80FD-496A551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E1170-1BBD-4BBA-8F1F-EFEADF5D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731F-51BD-4024-8620-D8B048B2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41E11-DAD1-4E9E-A91E-35F601F3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2BE71-7C61-4D03-A510-4E34B5E5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9AF1-25CF-4B44-899B-438A351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E7331-239D-4703-93C4-01AC67F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03F7B-7CD4-486C-84D8-394B7E7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E4435-584A-4408-944A-2C0C3F55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DA307-9FDC-4B37-9F29-8F849F1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C7D15-3CC9-4EFA-9A5E-B6EF4C6B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906C9-D615-4B64-ACCF-E500C78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DD584-3496-44FD-88BC-C3AB2E94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D017A-1015-4917-91BD-11FEDD6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45612-5471-40E3-97C4-DF15647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DA54E-638B-4119-813E-AA1D5CA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F52-9594-4641-90F3-1CC3963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5C54D-30EE-4738-B3FF-6D574C98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FDD92-5E27-4013-823C-59B46F76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58E2D-2A84-48DA-97B0-8740703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CC9C0-E901-49BA-8A97-E63C209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0E69E-15CA-4030-A102-EFF1B6D6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A91F7-8AFA-4CBE-9475-F392670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58EC3-9332-4C75-8054-40FDE141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E0686-7376-4B47-AA49-5918E4B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56016-4B15-4F70-A80F-0FC0FCB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6239F-7274-4BCE-8E30-F882DBF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7646-DF4B-4A28-8548-326E81F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A686C-1169-49F8-A0F8-C1310C5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4A391-48C6-4176-8B7E-AB2213B2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BBEAA-2D83-4D76-BFA4-9359E62D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726A1-0A13-4D01-B834-195D8E57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B4AD3-E26C-4C90-8DA3-FB90A87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12D86-DB3A-467A-8409-FC315C6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EB9C2-E311-4A96-BAB4-2668F8DE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6CA79-64B8-49EF-AB13-7BAF08CB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20464-BD02-4AC8-A8C5-8D37F26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59614-3363-447B-9D21-C1994FE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08F-2FD8-4C1F-A3C1-E17B6A13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1953-0DC4-4F50-B25F-2F0106C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1C703-4B30-4747-AAA5-C913CE4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D147E-74D9-40AA-AAC8-77249B72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6B6CD-CD28-405E-B0FC-03B5EA9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1253C-C5FE-4070-9B82-0BED448A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C2EB1-BAC1-43CD-A887-824411DB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FDAC1-EC2D-41F2-9432-295314AC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C6C65-7C26-4A77-8261-8B6414D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9C699-CEAC-41FA-990E-094D0A6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16F77-F636-43B6-A100-B58A7053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E25C0-025C-48B0-9F3D-8DDF6290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491-5387-4114-AC22-65F1C681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ADCCD-2CE6-4903-9198-50C20C6E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0B081-A18A-4987-B1B3-F7FB631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6D8CE-0C76-48CD-8F29-794304E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10954-DF81-460A-B9E0-E29B9F0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6B5A2-0F33-41C8-9F39-4DE8D32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DB432-C0B5-4376-BF1C-3D3445AB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86AE1-32ED-41A7-98CF-FC3EC7FB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E4306-A8B3-4779-87C8-963A2B01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AB477-7CA7-4A8F-B14B-4E29F1F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262DE-A1C0-4950-8379-378AB67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7437-1DF3-46D5-B55C-F8070BE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E7A48-F3E9-4F55-9910-5DD11952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92AC2-2B63-4058-B6F8-BC8AA1A3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84967-8687-4410-A49C-DDC3EB5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3600D-BCC5-4318-8691-31CAA14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72E61-DBB7-4F11-8354-804882B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1C2C2-A30D-43C2-BA7E-398D10F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6739B-2BB4-4A7D-9944-E59A87D5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BD969-B559-4AAB-8790-E5C220AD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0AF3E-F39A-4075-A2DB-9AA9AA6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9DD62-F6C7-49F8-B429-FDB341E3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61D-326A-4AAC-A72C-3D076913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807DA-92EF-4FEC-B9A7-ABECEF4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A3A61-8085-42F7-A97A-E130F62B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CA47A-15BB-40BE-9DD8-10CD480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CE4B6-34E2-4D48-B0F8-53FFAA30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38804-09A0-446C-BBDF-BC403A8C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3C9AF-1CD9-45A0-B95B-7EC14B8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31280-6588-434B-962A-13362F6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BEF1D-DB09-44FD-8718-49BEBF5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A52AA-25FF-4CA3-A7E1-9820451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A2FE7-0F17-4833-B82E-B094F812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488-6772-48ED-94FC-FE519876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85AD4-800E-4411-BE2B-A19EF620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5A8E7-BB5C-48C2-86B4-EC49162B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D8207-0A88-490A-9958-00221AE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328F0-311D-4534-9650-9FF2E80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E23BF-BA71-4437-8779-4B3B4049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66C66-2297-41D4-A536-606A5CF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6A59C-261A-4FBC-BDD5-093632B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3AE8C-BCCB-43C1-8392-345EF80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46BB8-3EB9-4493-9883-E43D470C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0D730-D1DE-400F-8293-F9E8E18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D24E-68C5-4302-93EC-6E32E89B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67EDE-E00D-4F3E-B040-0CB9866D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941F3-05E4-46FC-B836-BA25FE48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80BDE-CF4A-432C-8B82-8307257A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3808B-FECC-4F51-97A2-1CA2160B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31E02A-510C-468A-9274-E749315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173FF9-FCE9-4BFA-ABF2-7378B9D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6B9D6-1270-44D4-B356-712126BF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D2635-A61D-4920-BF92-989F877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0BBAA-A481-4E1C-BAF1-91922E9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755868-F7F0-4233-8342-E24743E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F1F4-88C2-414B-8C3A-90EA8E1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430BF8-FB63-40C4-AE24-06EDF80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0CD9C3-5E0F-4F09-8385-BB372FE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3A8F0-4394-46D5-B086-CB03F943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E16F09-9926-40DA-9306-535F7DA0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609524-2034-41D1-B36B-A456BA2C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1324C1-9319-4D1C-B737-8865F25D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83A35-C2D7-4EDF-8FB1-A768814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C992E7-0A96-4FBF-8634-3DDE4E4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78A7CA-8931-4932-AC92-59AD464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86D59E-07E4-4507-B427-06C39296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A2B5C-0BC4-4F1F-A561-64AE7598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B83E79-3B89-4F78-9283-D2DE158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10D43E-1894-443B-A9DB-23D84EA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372F1-537A-492D-885A-CDE4E83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36447F-D175-4E1E-8117-163F7DF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3AA80-9AA8-442E-9F32-E90A591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1E87BD-A1B4-47BA-A7CB-85698CA0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F09412-E5C9-4B99-8368-31CA5B2D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A2F861-0CD0-48F9-AA42-66A1192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885D8-FEBE-4EBA-8388-CB61FB4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54BB94-4CC5-43C9-A13E-0E5430BC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C39D-D1E5-4BB8-8C47-9041B8B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B4933-B34C-44E0-B83C-26849EB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59EEE-B993-49F5-812C-5DC8030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8FB18-54D1-4466-AD08-6161618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F8516B-3B18-4162-A39B-585BA0A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0730DA-304E-4191-8E08-194F48A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5291B2-E550-45A8-AA25-78FA6C4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EFE0BA-8907-44D4-A3EC-4FD900A8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ABA78-2590-4B14-978C-EBF86118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3564B-72D1-4DB6-BE1B-2C505EB6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61DC7B-E19B-4FDF-948E-60EB919D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129A-C399-4338-B19A-C21BBB3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79E643-6FFF-483D-B0E0-54C4B2D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CBBD9-5A15-461B-B0A6-58FD3D22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B283A-C8FF-49E5-B894-6784920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868C11-094F-40B8-BF51-524963A9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3A1D2B-F503-4368-9470-32E19B7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25A62E-9BBB-4893-9052-3EACCA4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D7F853-317B-4A3C-85CB-240F85B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543846-6B5B-4D56-9B71-A77EBB7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78F61C-07FB-4D76-ADB7-CC2396E2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FF6C72-EF1A-4EFD-969F-90F63E5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BB8-5153-485D-B3EA-D0FC892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4C34-5D2B-4836-84E9-3748E490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D5CA6C-C63F-46A6-A3CE-3440904F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A87FB0-451D-44B0-993A-5BDD3F43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45EDB6-2D2E-4E55-925D-AD31275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8FF496-9FD5-4E31-9976-8957DA8C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F2C2BD-7C7D-4F28-B068-843CEA5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526C2E-841E-46FF-9F42-01A6368F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284739-A499-4180-BA0C-9F2CDE2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B78BC0-81A3-4E3B-8FDC-78898840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74BF2F-D6BF-4F9B-BB9E-8B87CB1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D742AE-9F8F-45D6-9777-1C8BD77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9566-5A82-4285-844B-BE47712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10BFDA-2132-41EE-A72A-ED6D1A0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831FB-6328-4C84-88E8-A32C2420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D65EDE-DEF3-47F0-80B2-186F2589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85B811-8433-4933-9F47-EC008DBB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8682E2-9A3C-440E-9FD1-79E04CC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A8EFE1-E180-4175-B524-F591AC11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186CC2-A703-450E-8D9F-B3683A0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88E242-B81E-44CB-A0B9-C9A8186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18E6F3-75C8-44A4-82AD-FBA3C6EE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31320D-0748-4C81-A248-E5F80D5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5AAC-38A3-4D82-8AED-79A1BF5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1AA891-4223-4ED8-8FEF-3491273D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A62419-B679-4F0E-9131-FBA3433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9A6DBE-837C-4940-93B2-51E0993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895FF7-94F5-4E46-9E6A-EBA3353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007C5A-A708-4F28-A185-B57183EA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878AC8-2540-47B5-B520-ABE63F7E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8C6D1A-121F-41A1-9C3B-765496C1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E3E47B-2878-490A-A12C-4A28133C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DE2547-EF75-44B4-86FB-FB77A618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D89DBF-76CE-4E03-9B4B-FB87CE7C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110B-1E22-4B5D-B825-FE2F35E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8E9123-F1A6-4DBF-AC62-34F9732C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FA681-3E3D-4D5E-9E02-4AEC58D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6097AD-8AC7-4FB9-A3A2-56A6B82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0F65C-43AB-4A32-888E-BDE46E7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2B1240-58B5-4A5F-8492-E4086F6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76EBF5-5AA0-4DE4-B4A2-EBD0E08E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A82805-4869-4DC9-A4F8-3BE5374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DA67C4-4BCC-46D4-B300-277107D4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4F8C1F-650D-48B4-BE9E-0110D35E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804B28-FD95-4814-8833-1C441B4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29C7-BFA4-42E3-8603-AAE12C8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7ED455-9C17-40DF-9476-01458E1A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B81588-673F-472E-B516-E59CD34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8251BC-470C-459D-9CDC-3B71EFD1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972059-0DBC-4BDB-86AB-0CB26E01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E6350F-CF16-4D30-B4CD-2ACD471B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1D8B55-7C1E-437D-B1E0-D2857DA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30C193-78CA-4BEA-B20D-5AB13D5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878710-A256-49D4-829A-5B54941E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5E8AF2-51C6-4E45-8DC3-F84F0197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EA97BC-8D6A-41D7-A157-EC9C18F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7B5F-7A06-455C-99C5-EDC93FB9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EAFE38-0367-4D55-8380-1E732CB1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D81630-86FF-4239-8617-9288989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E6DF6D-6D90-4AF3-9696-323407D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37F733-D6B0-4455-A839-9F7A271F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8567E3-6996-46BE-BC58-CBB9617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05CA7-CCC6-485B-BDAB-A7943DD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D53FEA-D0A8-4759-B633-EAF00AF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0694E9-CA23-417A-A1C8-D72C208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3ADC6B-B585-4EF9-9663-E7DED2F0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24738-9F7D-475A-87E4-CFA1B4DA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9A07-E0D2-4435-8B95-78CE6E39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9905C2-E671-428A-A269-140DC3E7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B36B56-E6C5-490D-B830-CE869E55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A30229-EFDC-44D3-9D56-923C3457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259694-B9E1-4D4B-A271-D704858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EC08C3-7DDE-4B50-A6F6-49709515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EF9543-A2B6-4624-A45A-F1F22F5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4F711A-5295-4662-965D-465B160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44FB87-F9C6-4CCE-8EB8-A8B08AF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4DC2D2-067C-41F9-B2F3-4ECD558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C20C1A-23F9-4EF2-8CD7-1609EBB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1E24-45F0-46BE-B614-AE7A0876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56E231-83C6-4171-BA6C-97A325F0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1473BA-244E-4A46-802E-9FA55766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54F988-2793-4A30-B6AF-C21D9B2E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A6E2-B6CF-44FB-9CF2-7A40A31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C2CC-2D1F-4D2A-BCF7-1840E596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A20-71DE-4542-830A-93EA12C0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0845-19CC-42A6-906D-E78A934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7D2E-5364-41EC-892C-A7BAD4EA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9BF3-03B8-4FC2-BEBE-62F439F1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8E6E-0A3E-432E-8F55-935D122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BBBF-AE18-4DC6-A2D9-6B8E544E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7E43-770D-4641-86D5-891779B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485F-B117-40C9-803E-4EB5B02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03FD-44D7-49A0-AAA8-3E6FFC9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51F5-9394-4A93-B3FE-7F0B54BF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CA92-2DF9-4B58-B7A0-28584A54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BD6-3EAE-4B58-BFF4-7C036A2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1D0E-8D36-43C4-9E52-74AC5747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1840C-187A-417D-B5A8-D8A75520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B1114-C6B6-427D-A5A8-BDB2FD8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34FD-F012-4D7E-B341-FEB4B82A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BD410-EAC6-410C-97B5-FC3CFA23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DBDAB-9AA8-4369-ADD4-3E30647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7716-5F77-47B6-A9A5-955BEAE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65E64-919C-4CFE-8499-8A28608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AC6F-1F55-4810-9A3C-2AB9646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6B24-6500-45B2-9FEE-A8FDBD0D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007-C386-415C-A4C2-E00EE347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0799-810D-4F8D-9740-9A92B284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278B-E7D6-40DA-9035-DA32ABB0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E01F9-D9BC-4226-A211-32FF349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87214-66E9-4442-B9D1-29A7F4D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02B1-031A-4251-97CC-7D09F81D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1106-BF88-4341-AF85-3A4015DB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6237-AC11-41CA-92F9-790D3BC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B8B2-B895-46BC-A1EC-C35CC74D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5516-6C6B-4A65-A120-C9ADC33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75D4-D5DA-4129-AF5D-E8813F13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890-F07C-4345-8048-CD7336D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CD99-E26C-4EDB-8E7E-F1461E77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5131-6CA3-4B34-A2CE-BB3197BB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2694-71DD-42BE-A66B-873E6530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460C7-3A58-49CC-B511-3CF3E05C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7A80-51CF-4506-97F8-7398B0C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C2A2-E89E-43D1-8658-23F51D0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EC60-98AB-4C9C-8A63-CE4A5FB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B6DE-EC5F-41C1-9AFE-A10221E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BE34-A8C7-4071-A8A9-FD558E0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97BC-D76F-49DA-8EDA-46EA7E1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E91-F647-4DC1-84F4-BC1BD75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F680-1A7B-4879-873F-0E47B58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3402-E424-4A3C-B2AE-78AEA25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0BEF-8E17-498B-AC8B-51C1F8AC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6C44-46CF-4F24-B58D-21AC945D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0D71-58F4-4C6E-BD9D-F8A9409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36D4-1466-49B2-A459-205E34C7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B270-DE62-4E56-81EA-5490C17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0234-05C5-456B-9912-9B94EB4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63CF-53DF-423D-9547-27F2C30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81B8-20BB-435C-8F43-BB8B85E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9A9-4765-48D9-96E8-6050BD7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6D9E-2127-42BA-B284-9524E95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F78D-0A3F-45FC-915C-2C0DEFA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90012-7797-4161-8143-9F9F1AE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AA41-E8B5-4490-97D6-7A9FB09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2B4E-056B-4185-9E51-4996A17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356D-AC66-48FF-B6F2-7983E1A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1C5C-D665-4306-9DE1-9033F779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5A525-459D-4A1F-821E-644B677D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E9256-4EA3-4E2F-8C71-F5053C00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06ECC-986C-42AF-A529-33AAFEA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809-1047-4A56-A797-2A58077B1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3D97-62CA-4325-92B0-6E45AA230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0A8-ABDB-4645-AEB1-3FEE4E470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4FF1-0914-4B27-8761-FB4E57E1E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D0DB-BFE2-4FBC-BE73-234289C013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34B8-E9AC-4F2F-AA7D-EE845A2C4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EB8-9AC2-4717-9EA8-D0BCD2B2D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8D7-15E6-4949-8ACB-22666FCBA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CBB9-7BFC-4031-88EB-F00640E28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67F1-6FF6-4BC0-82C1-02CBA3617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C453-4083-41CC-A315-AAFE5C736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860-A188-47E6-9DFC-6D56CC77A8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748-4FD6-40E6-A037-8B45904C28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551-070E-4035-B290-CBEA0E609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7761-9BD1-4B3A-99EF-C4CC7DB87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842-435C-458F-BE39-920AA71420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785-F950-49C2-A3A8-AE96732A3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DF5C-9501-438C-BB81-03CC7F44C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E2F5-6E6D-4B33-80E8-D168E955D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BCAA-E7ED-406A-81B6-87CCCBAE2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33F-CD8B-46A3-A605-8D0599B3C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93C-622E-459B-8BE8-ADAFF7F27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1DC-983C-44F6-872A-4EBC54D25E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0D9-B424-433D-84D0-DC5FF5CEC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F76-B567-464B-B5C1-59FAE6DB5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8519-DA9C-47FF-A8D3-A5061E531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5289-91EE-460F-89CA-A11580BA7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CB7-1747-4125-9316-10917ED1F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285-BC84-43C0-855A-83D2A9BB9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2169-5442-4E9D-8CB2-874211522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E774-942E-415C-8350-5E867292C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F8B-79CE-4830-A274-B4D3E47D4A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ACF-C5B1-4CAB-9A09-85201A877A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B81-70E7-4EBF-84B4-50136DCE1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6E3-3C17-4ABD-9439-555C02FF3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EC52-9231-41D7-AEBE-ACA9B6975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829E-3DB2-4EDC-AD15-CEBC4D8C3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194-56E9-4D01-8C48-F644D2329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D51-16E4-4BBA-905B-5F646D6CE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365-7A31-4248-8E77-A7AD1726EC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3E9-42A6-40B4-8880-EF2B16D9E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3F32-3D01-42B1-A399-264050E091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572-BB48-4DD4-84AB-7DD9BB74F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527C-9F5A-45C2-B3E2-8CCB767BE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A42-58D6-482F-B8EA-C847B0FA3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68A-7D71-48C3-B651-35403B1C65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AD67-8D01-4B2B-88A5-D12D9472D9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35E-EFE1-47A6-A794-F739620085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33F6-8174-4621-848E-BF0DC60DC7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A39-E8B8-4EFB-9C89-7173601164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371680" y="2662200"/>
            <a:ext cx="44006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79873" descr=""/>
          <p:cNvPicPr/>
          <p:nvPr/>
        </p:nvPicPr>
        <p:blipFill>
          <a:blip r:embed="rId1"/>
          <a:stretch/>
        </p:blipFill>
        <p:spPr>
          <a:xfrm>
            <a:off x="490680" y="1023840"/>
            <a:ext cx="8162640" cy="4810320"/>
          </a:xfrm>
          <a:prstGeom prst="rect">
            <a:avLst/>
          </a:prstGeom>
          <a:ln w="0">
            <a:noFill/>
          </a:ln>
        </p:spPr>
      </p:pic>
      <p:sp>
        <p:nvSpPr>
          <p:cNvPr id="1472" name="矩形 79874"/>
          <p:cNvSpPr/>
          <p:nvPr/>
        </p:nvSpPr>
        <p:spPr>
          <a:xfrm>
            <a:off x="3957480" y="217476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78849" descr=""/>
          <p:cNvPicPr/>
          <p:nvPr/>
        </p:nvPicPr>
        <p:blipFill>
          <a:blip r:embed="rId1"/>
          <a:stretch/>
        </p:blipFill>
        <p:spPr>
          <a:xfrm>
            <a:off x="490680" y="1876320"/>
            <a:ext cx="8162640" cy="31053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78850"/>
          <p:cNvSpPr/>
          <p:nvPr/>
        </p:nvSpPr>
        <p:spPr>
          <a:xfrm>
            <a:off x="7796160" y="242244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7782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00800" cy="5543640"/>
          </a:xfrm>
          <a:prstGeom prst="rect">
            <a:avLst/>
          </a:prstGeom>
          <a:ln w="0">
            <a:noFill/>
          </a:ln>
        </p:spPr>
      </p:pic>
      <p:sp>
        <p:nvSpPr>
          <p:cNvPr id="1476" name="矩形 77826"/>
          <p:cNvSpPr/>
          <p:nvPr/>
        </p:nvSpPr>
        <p:spPr>
          <a:xfrm>
            <a:off x="7719840" y="78408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77827"/>
          <p:cNvSpPr/>
          <p:nvPr/>
        </p:nvSpPr>
        <p:spPr>
          <a:xfrm>
            <a:off x="2338560" y="185112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77828"/>
          <p:cNvSpPr/>
          <p:nvPr/>
        </p:nvSpPr>
        <p:spPr>
          <a:xfrm>
            <a:off x="2995560" y="237492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76801" descr=""/>
          <p:cNvPicPr/>
          <p:nvPr/>
        </p:nvPicPr>
        <p:blipFill>
          <a:blip r:embed="rId1"/>
          <a:stretch/>
        </p:blipFill>
        <p:spPr>
          <a:xfrm>
            <a:off x="523800" y="1052640"/>
            <a:ext cx="80964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89089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763040" cy="4752720"/>
          </a:xfrm>
          <a:prstGeom prst="rect">
            <a:avLst/>
          </a:prstGeom>
          <a:ln w="0">
            <a:noFill/>
          </a:ln>
        </p:spPr>
      </p:pic>
      <p:sp>
        <p:nvSpPr>
          <p:cNvPr id="1481" name="矩形 89090"/>
          <p:cNvSpPr/>
          <p:nvPr/>
        </p:nvSpPr>
        <p:spPr>
          <a:xfrm>
            <a:off x="5919840" y="1631880"/>
            <a:ext cx="1531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89091"/>
          <p:cNvSpPr/>
          <p:nvPr/>
        </p:nvSpPr>
        <p:spPr>
          <a:xfrm>
            <a:off x="3147840" y="3213000"/>
            <a:ext cx="1532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89092"/>
          <p:cNvSpPr/>
          <p:nvPr/>
        </p:nvSpPr>
        <p:spPr>
          <a:xfrm>
            <a:off x="6877080" y="4292640"/>
            <a:ext cx="8776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89093"/>
          <p:cNvSpPr/>
          <p:nvPr/>
        </p:nvSpPr>
        <p:spPr>
          <a:xfrm>
            <a:off x="4834080" y="4813200"/>
            <a:ext cx="34830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89094"/>
          <p:cNvSpPr/>
          <p:nvPr/>
        </p:nvSpPr>
        <p:spPr>
          <a:xfrm>
            <a:off x="1414440" y="5337000"/>
            <a:ext cx="709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9011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58240" cy="5543640"/>
          </a:xfrm>
          <a:prstGeom prst="rect">
            <a:avLst/>
          </a:prstGeom>
          <a:ln w="0">
            <a:noFill/>
          </a:ln>
        </p:spPr>
      </p:pic>
      <p:sp>
        <p:nvSpPr>
          <p:cNvPr id="1487" name="矩形 90114"/>
          <p:cNvSpPr/>
          <p:nvPr/>
        </p:nvSpPr>
        <p:spPr>
          <a:xfrm>
            <a:off x="7748640" y="314640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8496000" cy="406728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2195640" y="2133720"/>
            <a:ext cx="6523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88067"/>
          <p:cNvSpPr/>
          <p:nvPr/>
        </p:nvSpPr>
        <p:spPr>
          <a:xfrm>
            <a:off x="3708360" y="2133720"/>
            <a:ext cx="6526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6156360" y="2133720"/>
            <a:ext cx="576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7881840" y="2133720"/>
            <a:ext cx="652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1090440" y="2543040"/>
            <a:ext cx="6526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9623520" y="2543040"/>
            <a:ext cx="458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7"/>
          <p:cNvSpPr/>
          <p:nvPr/>
        </p:nvSpPr>
        <p:spPr>
          <a:xfrm>
            <a:off x="4576680" y="295272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8"/>
          <p:cNvSpPr/>
          <p:nvPr/>
        </p:nvSpPr>
        <p:spPr>
          <a:xfrm>
            <a:off x="6548400" y="295272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82"/>
          <p:cNvSpPr/>
          <p:nvPr/>
        </p:nvSpPr>
        <p:spPr>
          <a:xfrm>
            <a:off x="1967040" y="335268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83"/>
          <p:cNvSpPr/>
          <p:nvPr/>
        </p:nvSpPr>
        <p:spPr>
          <a:xfrm>
            <a:off x="7024680" y="336240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84"/>
          <p:cNvSpPr/>
          <p:nvPr/>
        </p:nvSpPr>
        <p:spPr>
          <a:xfrm>
            <a:off x="2023920" y="3772080"/>
            <a:ext cx="51912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85"/>
          <p:cNvSpPr/>
          <p:nvPr/>
        </p:nvSpPr>
        <p:spPr>
          <a:xfrm>
            <a:off x="5672160" y="378144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8086"/>
          <p:cNvSpPr/>
          <p:nvPr/>
        </p:nvSpPr>
        <p:spPr>
          <a:xfrm>
            <a:off x="4862520" y="4181400"/>
            <a:ext cx="519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8087"/>
          <p:cNvSpPr/>
          <p:nvPr/>
        </p:nvSpPr>
        <p:spPr>
          <a:xfrm>
            <a:off x="1405080" y="4591080"/>
            <a:ext cx="574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8088"/>
          <p:cNvSpPr/>
          <p:nvPr/>
        </p:nvSpPr>
        <p:spPr>
          <a:xfrm>
            <a:off x="4033800" y="4600440"/>
            <a:ext cx="636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8089"/>
          <p:cNvSpPr/>
          <p:nvPr/>
        </p:nvSpPr>
        <p:spPr>
          <a:xfrm>
            <a:off x="6186600" y="4600440"/>
            <a:ext cx="636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87041" descr=""/>
          <p:cNvPicPr/>
          <p:nvPr/>
        </p:nvPicPr>
        <p:blipFill>
          <a:blip r:embed="rId1"/>
          <a:stretch/>
        </p:blipFill>
        <p:spPr>
          <a:xfrm>
            <a:off x="299880" y="2190600"/>
            <a:ext cx="8544240" cy="24768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87046"/>
          <p:cNvSpPr/>
          <p:nvPr/>
        </p:nvSpPr>
        <p:spPr>
          <a:xfrm>
            <a:off x="1309680" y="4219560"/>
            <a:ext cx="6523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47"/>
          <p:cNvSpPr/>
          <p:nvPr/>
        </p:nvSpPr>
        <p:spPr>
          <a:xfrm>
            <a:off x="3564000" y="4221000"/>
            <a:ext cx="576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6017" descr=""/>
          <p:cNvPicPr/>
          <p:nvPr/>
        </p:nvPicPr>
        <p:blipFill>
          <a:blip r:embed="rId1"/>
          <a:stretch/>
        </p:blipFill>
        <p:spPr>
          <a:xfrm>
            <a:off x="309600" y="895320"/>
            <a:ext cx="8524800" cy="50673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86018"/>
          <p:cNvSpPr/>
          <p:nvPr/>
        </p:nvSpPr>
        <p:spPr>
          <a:xfrm>
            <a:off x="4519440" y="347652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6019"/>
          <p:cNvSpPr/>
          <p:nvPr/>
        </p:nvSpPr>
        <p:spPr>
          <a:xfrm>
            <a:off x="6948360" y="386064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86020"/>
          <p:cNvSpPr/>
          <p:nvPr/>
        </p:nvSpPr>
        <p:spPr>
          <a:xfrm>
            <a:off x="4100400" y="4286160"/>
            <a:ext cx="1119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86025"/>
          <p:cNvSpPr/>
          <p:nvPr/>
        </p:nvSpPr>
        <p:spPr>
          <a:xfrm>
            <a:off x="5087880" y="4705200"/>
            <a:ext cx="41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6026"/>
          <p:cNvSpPr/>
          <p:nvPr/>
        </p:nvSpPr>
        <p:spPr>
          <a:xfrm>
            <a:off x="7602480" y="5114880"/>
            <a:ext cx="1073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6027"/>
          <p:cNvSpPr/>
          <p:nvPr/>
        </p:nvSpPr>
        <p:spPr>
          <a:xfrm>
            <a:off x="1039680" y="5514840"/>
            <a:ext cx="3387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84993" descr=""/>
          <p:cNvPicPr/>
          <p:nvPr/>
        </p:nvPicPr>
        <p:blipFill>
          <a:blip r:embed="rId1"/>
          <a:stretch/>
        </p:blipFill>
        <p:spPr>
          <a:xfrm>
            <a:off x="343080" y="1757520"/>
            <a:ext cx="8458200" cy="3342960"/>
          </a:xfrm>
          <a:prstGeom prst="rect">
            <a:avLst/>
          </a:prstGeom>
          <a:ln w="0">
            <a:noFill/>
          </a:ln>
        </p:spPr>
      </p:pic>
      <p:sp>
        <p:nvSpPr>
          <p:cNvPr id="1461" name="矩形 84994"/>
          <p:cNvSpPr/>
          <p:nvPr/>
        </p:nvSpPr>
        <p:spPr>
          <a:xfrm>
            <a:off x="3776760" y="3422520"/>
            <a:ext cx="507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4995"/>
          <p:cNvSpPr/>
          <p:nvPr/>
        </p:nvSpPr>
        <p:spPr>
          <a:xfrm>
            <a:off x="8129520" y="3870360"/>
            <a:ext cx="3301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3969" descr=""/>
          <p:cNvPicPr/>
          <p:nvPr/>
        </p:nvPicPr>
        <p:blipFill>
          <a:blip r:embed="rId1"/>
          <a:stretch/>
        </p:blipFill>
        <p:spPr>
          <a:xfrm>
            <a:off x="485640" y="1028880"/>
            <a:ext cx="8172720" cy="48006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3970"/>
          <p:cNvSpPr/>
          <p:nvPr/>
        </p:nvSpPr>
        <p:spPr>
          <a:xfrm>
            <a:off x="7824960" y="222264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2945" descr=""/>
          <p:cNvPicPr/>
          <p:nvPr/>
        </p:nvPicPr>
        <p:blipFill>
          <a:blip r:embed="rId1"/>
          <a:stretch/>
        </p:blipFill>
        <p:spPr>
          <a:xfrm>
            <a:off x="509760" y="1300320"/>
            <a:ext cx="8124480" cy="42573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2946"/>
          <p:cNvSpPr/>
          <p:nvPr/>
        </p:nvSpPr>
        <p:spPr>
          <a:xfrm>
            <a:off x="5081760" y="243216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1921" descr=""/>
          <p:cNvPicPr/>
          <p:nvPr/>
        </p:nvPicPr>
        <p:blipFill>
          <a:blip r:embed="rId1"/>
          <a:stretch/>
        </p:blipFill>
        <p:spPr>
          <a:xfrm>
            <a:off x="538200" y="795240"/>
            <a:ext cx="8067600" cy="52675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1922"/>
          <p:cNvSpPr/>
          <p:nvPr/>
        </p:nvSpPr>
        <p:spPr>
          <a:xfrm>
            <a:off x="7805880" y="355608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80897" descr=""/>
          <p:cNvPicPr/>
          <p:nvPr/>
        </p:nvPicPr>
        <p:blipFill>
          <a:blip r:embed="rId1"/>
          <a:stretch/>
        </p:blipFill>
        <p:spPr>
          <a:xfrm>
            <a:off x="528480" y="1062000"/>
            <a:ext cx="8087040" cy="47340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80898"/>
          <p:cNvSpPr/>
          <p:nvPr/>
        </p:nvSpPr>
        <p:spPr>
          <a:xfrm>
            <a:off x="7853400" y="4327560"/>
            <a:ext cx="41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9:46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